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12.gif" ContentType="image/gif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F68-7AE2-4B07-99BA-2525BAB8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D38-8303-4DBF-952E-46ACCB6D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273-ED3E-4787-8CEA-56DF0913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8D5-E1F9-49FE-A9BA-0667C29B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BB4D-8134-440B-A0A4-346D4902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B3F6-480A-4E71-A71A-BD67038F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4241-D552-47D7-B895-F4AB2AE1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153F-3522-414A-BE71-32D4FD36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2885-EF2E-4C2C-B3AB-D82A952B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131C-CC46-4218-8F63-53506445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AF60-03F5-46FC-89B5-B5E3E035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CD9-3BC6-429F-99C4-0799F0B3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0E51-0FF0-46C8-9CCF-BAB3024F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A8F3-1C7F-4C49-9EDB-00087F10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5EEE-F7A9-4567-94EC-98087E36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DCAD-1FAA-4776-875F-55FF05B5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0389-77BF-458B-AC3D-A14A3AB7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801-A3F1-4DCC-9287-B3150D30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DCB-F859-4462-A3E7-00DE5972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8AB-0267-423D-A924-BB193F32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310-80D5-4B75-9789-E3FFBEF2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208-2A8E-423F-8FD4-B510877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395-3B1B-4533-8DF1-22E2DC2E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069-A588-4B4F-A4CD-6E942B0F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FDE0-7AB4-4A62-9B48-4FE75F1D5A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52EF-E4F5-4043-9507-C136A276AC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Kinematics in One Dimens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gs. 19-3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905120" y="838080"/>
            <a:ext cx="5029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APTER 2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9" name="Picture 6" descr="running spiderman.gif"/>
          <p:cNvPicPr/>
          <p:nvPr/>
        </p:nvPicPr>
        <p:blipFill>
          <a:blip r:embed="rId1"/>
          <a:stretch/>
        </p:blipFill>
        <p:spPr>
          <a:xfrm>
            <a:off x="6477120" y="2857680"/>
            <a:ext cx="1600200" cy="3678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itive Displa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657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nge in displacement 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0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=  30 m – 10 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0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0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=  20 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7" descr="02_05"/>
          <p:cNvPicPr/>
          <p:nvPr/>
        </p:nvPicPr>
        <p:blipFill>
          <a:blip r:embed="rId1"/>
          <a:stretch/>
        </p:blipFill>
        <p:spPr>
          <a:xfrm>
            <a:off x="4648320" y="160020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9"/>
          <p:cNvSpPr/>
          <p:nvPr/>
        </p:nvSpPr>
        <p:spPr>
          <a:xfrm>
            <a:off x="1066680" y="289548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gative Displa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erson is walking in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pposit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irection on the x-axis n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 10 m – 30 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20 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7" descr="02_06"/>
          <p:cNvPicPr/>
          <p:nvPr/>
        </p:nvPicPr>
        <p:blipFill>
          <a:blip r:embed="rId1"/>
          <a:stretch/>
        </p:blipFill>
        <p:spPr>
          <a:xfrm>
            <a:off x="4648320" y="1752480"/>
            <a:ext cx="4267080" cy="41911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8"/>
          <p:cNvSpPr/>
          <p:nvPr/>
        </p:nvSpPr>
        <p:spPr>
          <a:xfrm>
            <a:off x="838080" y="34290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80880" y="5257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negative value here simply indicates a direction! (to the lef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ED VS. VELOC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pe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SCALAR quantity.  It is defined as the tota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distan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raveled divided by the time it takes to travel this distan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 = total distance/total 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Veloc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VECTOR quantity.  It is defined in terms of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displace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ther than total dist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5" descr="train_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ELOCITY</a:t>
            </a:r>
            <a:br>
              <a:rPr sz="40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V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OTAL DISPLAC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LOC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ME ELAP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  =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809880" y="39625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3809880" y="457200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3276720" y="44956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locity is a function of ti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op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 car is traveling at a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consta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eloc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Botto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 car is traveling with a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vary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eloc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11" descr="02_09ab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CHANICS:  the study of the motion of objects &amp; related forces. Two divisions of mechanics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43430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Kinematic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 describe HOW objects mo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Dynamic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 deals with forces &amp; WHY objects mo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9" descr="j0301066"/>
          <p:cNvPicPr/>
          <p:nvPr/>
        </p:nvPicPr>
        <p:blipFill>
          <a:blip r:embed="rId1"/>
          <a:stretch/>
        </p:blipFill>
        <p:spPr>
          <a:xfrm>
            <a:off x="3657600" y="2084400"/>
            <a:ext cx="1827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nslational Mo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hapter 2, we will only discuss objects that mo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ith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rotat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type of motion is calle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LATIONAL MO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02_01ab"/>
          <p:cNvPicPr/>
          <p:nvPr/>
        </p:nvPicPr>
        <p:blipFill>
          <a:blip r:embed="rId1"/>
          <a:stretch/>
        </p:blipFill>
        <p:spPr>
          <a:xfrm>
            <a:off x="5097600" y="1600200"/>
            <a:ext cx="3139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 Black"/>
              </a:rPr>
              <a:t>REFERENCE FRAME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592000"/>
            <a:ext cx="82296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y measurement of position, distance, or speed must be made with respect to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frame o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reference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ference frame or Frame of Refer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erson walks 5 km/h.  The train is moving at 80 km/h with respect to the ground.  How fast is the person going with respect to the groun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7" descr="02_02"/>
          <p:cNvPicPr/>
          <p:nvPr/>
        </p:nvPicPr>
        <p:blipFill>
          <a:blip r:embed="rId1"/>
          <a:stretch/>
        </p:blipFill>
        <p:spPr>
          <a:xfrm>
            <a:off x="1041480" y="3941640"/>
            <a:ext cx="7061040" cy="218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pecifying the Motion of an Obje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often specify the motion of an object by using a set of coordinate axes.  This can represent our frame of refere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one dimensional motion, we choose the x-axis as the line along which motion takes pla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an object is dropped, motion is vertical and we use the y-ax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7" descr="02_03"/>
          <p:cNvPicPr/>
          <p:nvPr/>
        </p:nvPicPr>
        <p:blipFill>
          <a:blip r:embed="rId1"/>
          <a:stretch/>
        </p:blipFill>
        <p:spPr>
          <a:xfrm>
            <a:off x="4648320" y="1919160"/>
            <a:ext cx="40384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STANCE vs. DISPLAC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ance traveled here is not the same as the DISPLACEMEN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placement is the change in postion of the object or how far the object is from its starting posi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19" descr="02_04"/>
          <p:cNvPicPr/>
          <p:nvPr/>
        </p:nvPicPr>
        <p:blipFill>
          <a:blip r:embed="rId1"/>
          <a:stretch/>
        </p:blipFill>
        <p:spPr>
          <a:xfrm>
            <a:off x="228600" y="3886200"/>
            <a:ext cx="5867280" cy="2666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0"/>
          <p:cNvSpPr/>
          <p:nvPr/>
        </p:nvSpPr>
        <p:spPr>
          <a:xfrm>
            <a:off x="6248520" y="33526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tal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dista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ravel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7467480" y="411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00 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6324480" y="4876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tal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displace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7315200" y="6019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0 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10" descr="dog running around.gif"/>
          <p:cNvPicPr/>
          <p:nvPr/>
        </p:nvPicPr>
        <p:blipFill>
          <a:blip r:embed="rId2"/>
          <a:stretch/>
        </p:blipFill>
        <p:spPr>
          <a:xfrm>
            <a:off x="1066680" y="0"/>
            <a:ext cx="708660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say you go 50 m eas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1676520" y="1905120"/>
            <a:ext cx="4800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219320" y="31240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n you go 10 m south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6477120" y="1981080"/>
            <a:ext cx="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613560" y="137160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0 m ea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6705720" y="30481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 m sou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1143000" y="44197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have gone a distance of 60 m, but your displacement is less than that!  You could find it by using the Pythagorean Theorem.  Where the displacement is equal to the hypotene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1676520" y="1905120"/>
            <a:ext cx="4800600" cy="1143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lacement is a vector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placement 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gnitude &amp; direction.  Vectors are represented with arrow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11" descr="02_05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2189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02_06"/>
          <p:cNvPicPr/>
          <p:nvPr/>
        </p:nvPicPr>
        <p:blipFill>
          <a:blip r:embed="rId2"/>
          <a:stretch/>
        </p:blipFill>
        <p:spPr>
          <a:xfrm>
            <a:off x="5114880" y="1600200"/>
            <a:ext cx="3103560" cy="2189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4"/>
          <p:cNvSpPr/>
          <p:nvPr/>
        </p:nvSpPr>
        <p:spPr>
          <a:xfrm>
            <a:off x="914400" y="5305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cement is represented with an X since it is along the x-axis.  Displacement is then “the change in x”  o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1523880" y="6477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182880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25:07Z</dcterms:created>
  <dc:creator>jluckey</dc:creator>
  <dc:description/>
  <dc:language>en-US</dc:language>
  <cp:lastModifiedBy>jluckey</cp:lastModifiedBy>
  <dcterms:modified xsi:type="dcterms:W3CDTF">2011-08-07T21:34:49Z</dcterms:modified>
  <cp:revision>6</cp:revision>
  <dc:subject/>
  <dc:title>Kinematics in One Dimension</dc:title>
</cp:coreProperties>
</file>